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B3A83-3B3A-4841-99DC-C75A3AD90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CBF00-06BB-4F6A-B003-7767EFEDF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2B147-ABDD-4841-A482-7EDEA58E2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E9679-214D-468B-9346-9DBE1B1D3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7CC8F-9A61-4131-9979-086939497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B8B80-903C-4918-8307-882480BEC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3404D-9B7D-4587-9B53-B761248DB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3B85B-9721-4FF1-8EA2-5E0FF88C8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6FF4A-87D5-40A0-8362-DD6836368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4639A-58A7-4731-828A-D3888400E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52456-002A-4A62-9579-4BA23E0D0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640BA-E2C5-4154-BAAC-19767C14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450B4-CD44-4419-9D6C-912F5507D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18D7A-6606-462D-BFE7-AC8B5676D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2B20F-7B5A-404D-981D-CBB6C60C4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5CDDC-7B27-46AF-9F48-59C9DA433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4D049-E499-48C3-BEAF-EC7FFCC8B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D97C-9A0A-4BFC-8D8F-31F4C242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97B65-37C5-46F3-82D3-C1B1E70BF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472D-4F42-44B4-AD35-C4D13AB9B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0E3AA-89DD-4ADB-A8AF-2B2F50ABC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53C48-2B4B-4306-902F-CABC3F6BC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6AFD-753F-4E68-8FC1-68270791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AA3F-E9B6-4417-8F67-7CD5A55B9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6273-FAD6-487A-A65F-9C10C00257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A2F3-F067-4128-9553-F9913C0C6E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1143000"/>
            <a:ext cx="8915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0033"/>
                </a:solidFill>
                <a:latin typeface="Bradley Hand ITC"/>
              </a:rPr>
              <a:t>Natural Resources</a:t>
            </a:r>
            <a:r>
              <a:rPr b="0" lang="en-US" sz="4800" spc="-1" strike="noStrike">
                <a:solidFill>
                  <a:srgbClr val="330033"/>
                </a:solidFill>
                <a:latin typeface="Times New Roman"/>
              </a:rPr>
              <a:t> </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Science</a:t>
            </a:r>
            <a:endParaRPr b="0" lang="en-US" sz="4400" spc="-1" strike="noStrike">
              <a:solidFill>
                <a:srgbClr val="000000"/>
              </a:solidFill>
              <a:latin typeface="Arial"/>
            </a:endParaRPr>
          </a:p>
        </p:txBody>
      </p:sp>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ustainability- what is it?!</a:t>
            </a:r>
            <a:endParaRPr b="0" lang="en-US" sz="4200" spc="-1" strike="noStrike">
              <a:solidFill>
                <a:srgbClr val="330033"/>
              </a:solidFill>
              <a:latin typeface="Times New Roman"/>
            </a:endParaRPr>
          </a:p>
        </p:txBody>
      </p:sp>
      <p:sp>
        <p:nvSpPr>
          <p:cNvPr id="100" name=""/>
          <p:cNvSpPr txBox="1"/>
          <p:nvPr/>
        </p:nvSpPr>
        <p:spPr>
          <a:xfrm>
            <a:off x="838080" y="1523880"/>
            <a:ext cx="7772400" cy="45309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meeting the needs of the present without compromising the ability of future generations to meet their own need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pa.g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graphicFrame>
        <p:nvGraphicFramePr>
          <p:cNvPr id="102" name=""/>
          <p:cNvGraphicFramePr/>
          <p:nvPr/>
        </p:nvGraphicFramePr>
        <p:xfrm>
          <a:off x="914400" y="0"/>
          <a:ext cx="8077320" cy="6713640"/>
        </p:xfrm>
        <a:graphic>
          <a:graphicData uri="http://schemas.openxmlformats.org/drawingml/2006/table">
            <a:tbl>
              <a:tblPr/>
              <a:tblGrid>
                <a:gridCol w="2590920"/>
                <a:gridCol w="54864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Resource</a:t>
                      </a:r>
                      <a:endParaRPr b="0" lang="en-US" sz="18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How are our resources used?</a:t>
                      </a:r>
                      <a:endParaRPr b="0" lang="en-US" sz="18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r>
              <a:tr h="107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it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in oil drilling to weigh down the oil and prevent gushers (high specific gravity), filler in paint, glass, toothpast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r>
              <a:tr h="107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rt</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make stone tools. (hardness, fracture patterns). Used as fill to provide a stable base for roads (insolubility)</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82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y</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make pottery and bricks. Used for pet litter (ability to absorb water)</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156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copyrite (</a:t>
                      </a:r>
                      <a:r>
                        <a:rPr b="1" lang="en-US" sz="1600" spc="-1" strike="noStrike">
                          <a:solidFill>
                            <a:srgbClr val="000000"/>
                          </a:solidFill>
                          <a:latin typeface="Arial"/>
                        </a:rPr>
                        <a:t>copper</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 is used to make electrical wiring (electrical conductivity). Used in alloys - bronze and brass (low melting point, beauty, resistance to oxidation) Used as an ingredient in pigments (blue and green) </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81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fuel (flammable). The oils and tars produced processing coal are processed into a variety of organic solvents and compounds such as plastics, motor fuel, photo developer, perfume, medicine, and sugar substitut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graphicFrame>
        <p:nvGraphicFramePr>
          <p:cNvPr id="104" name=""/>
          <p:cNvGraphicFramePr/>
          <p:nvPr/>
        </p:nvGraphicFramePr>
        <p:xfrm>
          <a:off x="914400" y="0"/>
          <a:ext cx="7772400" cy="6858000"/>
        </p:xfrm>
        <a:graphic>
          <a:graphicData uri="http://schemas.openxmlformats.org/drawingml/2006/table">
            <a:tbl>
              <a:tblPr/>
              <a:tblGrid>
                <a:gridCol w="2514600"/>
                <a:gridCol w="5257800"/>
              </a:tblGrid>
              <a:tr h="40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Resourc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How are our resources used?</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r>
              <a:tr h="198900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ena (</a:t>
                      </a:r>
                      <a:r>
                        <a:rPr b="1" lang="en-US" sz="1600" spc="-1" strike="noStrike">
                          <a:solidFill>
                            <a:srgbClr val="000000"/>
                          </a:solidFill>
                          <a:latin typeface="Arial"/>
                        </a:rPr>
                        <a:t>lead</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rgest use of lead is in automotive batteries. It is also used as weights (high specific gravity). Used as an ingredient in solder (soft, low melting point.). Until recently it was also used as an ingredient in paint and as an additive in gasoline to make engines run more smoothl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r>
              <a:tr h="91296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ypsum</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ypsum is primarily used to make wallboard. It is also an ingredient in cemen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45080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menite (</a:t>
                      </a:r>
                      <a:r>
                        <a:rPr b="1" lang="en-US" sz="1600" spc="-1" strike="noStrike">
                          <a:solidFill>
                            <a:srgbClr val="000000"/>
                          </a:solidFill>
                          <a:latin typeface="Arial"/>
                        </a:rPr>
                        <a:t>titanium</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anium is used in alloys to make strong light-weight materials - space ships, bicycles Used to make white paint - non-toxic replacement for lead, which used to be used for this purpose. (low reactivit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91296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on </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on is used for tools, for appliances, for building supports. It is also used as a pigment (red and ochr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18260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estone is used as building stone, for ornamental stone for surfaces and sculpture, to make cement and mortar, as crushed stone for fill</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graphicFrame>
        <p:nvGraphicFramePr>
          <p:cNvPr id="106" name=""/>
          <p:cNvGraphicFramePr/>
          <p:nvPr/>
        </p:nvGraphicFramePr>
        <p:xfrm>
          <a:off x="990720" y="0"/>
          <a:ext cx="7924680" cy="5931000"/>
        </p:xfrm>
        <a:graphic>
          <a:graphicData uri="http://schemas.openxmlformats.org/drawingml/2006/table">
            <a:tbl>
              <a:tblPr/>
              <a:tblGrid>
                <a:gridCol w="2438280"/>
                <a:gridCol w="5486400"/>
              </a:tblGrid>
              <a:tr h="3715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Resourc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How are our resources used?</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r>
              <a:tr h="10699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sel Shell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18720">
                      <a:solidFill>
                        <a:srgbClr val="ffffe1"/>
                      </a:solidFill>
                    </a:lnB>
                    <a:solidFill>
                      <a:srgbClr val="fbfbfb"/>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sel shells were used as ceremonial objects. European Americans ha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shells as ornaments - buttons and pearls for jewelr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18720">
                      <a:solidFill>
                        <a:srgbClr val="ffffe1"/>
                      </a:solidFill>
                    </a:lnB>
                    <a:solidFill>
                      <a:srgbClr val="fbfbfb"/>
                    </a:solidFill>
                  </a:tcPr>
                </a:tc>
              </a:tr>
              <a:tr h="8269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il/Natural Ga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and natural gas are used as fuels and ingredients in the chemical industry to produce petroleum based products notably plastic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r>
              <a:tr h="8272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sphat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sphate is used as a fertilizer and to make phosphoric acid which is a major ingredient in food products such as soda.</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0699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tpeter</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tpeter was used as a fertilizer (source of nitrogen) and as an ingredient in gunpowder. It has now been replaced by the related compound ammonium nitrate which can be manufactured in the laborator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5842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 &amp; Gravel</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 and gravel are used as fill to provide a stable foundation for buildings and road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3556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ston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stone is used as a building material.</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8254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halerite (</a:t>
                      </a:r>
                      <a:r>
                        <a:rPr b="1" lang="en-US" sz="1600" spc="-1" strike="noStrike">
                          <a:solidFill>
                            <a:srgbClr val="000000"/>
                          </a:solidFill>
                          <a:latin typeface="Arial"/>
                        </a:rPr>
                        <a:t>zinc</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inc is used as an ingredient in brass (w/copper). It is used to coat (galvanize) iron implements to protect them from rusting. It is used as a pigment (whit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0:16:58Z</dcterms:created>
  <dc:creator>Brad Richards</dc:creator>
  <dc:description/>
  <dc:language>en-US</dc:language>
  <cp:lastModifiedBy>User</cp:lastModifiedBy>
  <dcterms:modified xsi:type="dcterms:W3CDTF">2009-10-22T16:01:36Z</dcterms:modified>
  <cp:revision>66</cp:revision>
  <dc:subject/>
  <dc:title>Natural Resources</dc:title>
</cp:coreProperties>
</file>